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D393-A927-42C1-8A46-18280ABAC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520" y="48398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EE01-55E9-44C5-9E95-ECA2D40C4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50560" y="21333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33520" y="48398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750560" y="48398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B7E1-D590-43D7-A7FC-B0697ACEB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315960" y="21333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8400" y="21333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533520" y="48398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315960" y="48398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8400" y="48398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83D3-AA57-4F17-8E72-45493810A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A18F9-E0B4-4B92-906F-F875EDA11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533520" y="2133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ACE20-6653-454F-945D-EFF3D9C18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C8426-1A9D-4E37-BFF6-C0C11B3CD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0560" y="21333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7E995-4847-4107-A3EB-885BCF19C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0D613-AF57-40E6-B937-D22A4938B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533520" y="304560"/>
            <a:ext cx="82296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E4569-7C72-4C6F-99CB-26F27C5D0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0560" y="21333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520" y="48398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7DDBE-F02F-4BC5-9D88-C0980D4F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533520" y="2133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55B0-2340-4440-ACA9-9E6E08D97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50560" y="21333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750560" y="48398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F1956-277A-4E09-9EF7-59CB0A68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50560" y="21333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33520" y="48398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7FF92-1EAB-4ED6-BA4A-F424CDBD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33520" y="48398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E270A-581B-436A-A305-C568B69DA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50560" y="21333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33520" y="48398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750560" y="48398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AC61E-2271-4FFB-B2C2-7CDE91823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5960" y="21333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98400" y="21333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33520" y="48398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5960" y="48398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98400" y="48398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17A9F-D94F-4307-B9FB-9A22665D2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0DA8-B77B-4649-ADC5-B9A9E36B2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0560" y="21333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B9C6-1F1F-44D1-BE73-715A24928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4DED-1648-4428-9C4F-C51C127EB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33520" y="304560"/>
            <a:ext cx="82296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42A4-F0DD-4E04-AD11-DB21E9235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0560" y="21333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520" y="48398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9CA8-BA25-4073-9D54-19708720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0560" y="21333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750560" y="48398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B611-0BE0-48C9-847E-B7CE19B6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50560" y="21333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3520" y="48398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A2A2-9533-4FEE-BD2D-88428A6E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533520" y="2133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553D2-C6F3-42F6-956D-970E46421C3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25770-DE90-41E0-8B06-ED14F68F667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1981080"/>
            <a:ext cx="76197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ahoma"/>
              </a:rPr>
              <a:t>Chapter 8</a:t>
            </a:r>
            <a:br>
              <a:rPr sz="3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REPUBLICAN ASCENDANCY: </a:t>
            </a:r>
            <a:r>
              <a:rPr b="1" lang="en-US" sz="3000" spc="-1" strike="noStrike">
                <a:solidFill>
                  <a:srgbClr val="ffffcc"/>
                </a:solidFill>
                <a:latin typeface="Tahoma"/>
              </a:rPr>
              <a:t>The Jeffersonian Vision</a:t>
            </a:r>
            <a:endParaRPr b="1" lang="en-US" sz="3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800600"/>
            <a:ext cx="9144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America Past and Pres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Eighth Edi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vin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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ree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redrickso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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illiam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ros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r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657864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pyright 2007, Pearson Education, Inc., publishing as Longm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The Louisiana Purchase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uisiana French and Spanish inhabitants unfamiliar with Republican princip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uisiana Government Act denied Louisiana self-ru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other Jeffersonian departure from Republican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The Lewis and Clark Expedition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wis and Clark Expedition commissioned prior to purchase of Louisi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al to find if Missouri River goes to Pacific and to explore flora and fau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cagawea critical in helping expedition deal with nature and Native Americans whom they encounte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ort on Louisiana’s economic promise confirmed Jefferson’s desire to purch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The Louisiana Purchase and the Route of Lewis and Clark</a:t>
            </a:r>
            <a:endParaRPr b="1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39152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Conflict with the Barbary States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rth African states demanded tribute from ships sailing in Mediterrane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fferson refused and dispatched U.S. fleet to intimidate Barbary sta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tacks failed and U.S. ended up paying ransom for crew of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U.S.S. Philadelph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.S. finally forced negotiation with a blocka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fferson won re-election overwhelmingl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The Barbary States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8076960" cy="41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The Election of 1804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rcRect l="0" t="27013" r="0" b="7004"/>
          <a:stretch/>
        </p:blipFill>
        <p:spPr>
          <a:xfrm>
            <a:off x="304920" y="2666880"/>
            <a:ext cx="8610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Jefferson’s Critics 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pute over Jefferson’s reforms of federal judicia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flicts between Republica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rr’s plot to separate the We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tional dispute over the slave tra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Attack on the Judges: Judiciary Act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diciary Act of 1801 created new circuit courts filled with loyal Federali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dnight judges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02—Jeffersonians repealed Judiciary Act of 1801 to abolish courts and save mone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deralists charged violation of judges’ constitutional right of ten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Attack on the Judges: </a:t>
            </a:r>
            <a:br>
              <a:rPr sz="4400"/>
            </a:br>
            <a:r>
              <a:rPr b="1" i="1" lang="en-US" sz="4400" spc="-1" strike="noStrike">
                <a:solidFill>
                  <a:srgbClr val="ffffcc"/>
                </a:solidFill>
                <a:latin typeface="Tahoma"/>
              </a:rPr>
              <a:t>Marbury v. Madison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Marbury v. Madis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1803) ruled Judiciary Act of 1789 unconstitution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deralist Marbury denied his judgeshi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ublicans claimed vic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ief Justice John Marshall ensured Federalist influence through judicial re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Attack on the Judges:  Impeachments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03—Federalist John Pickering impeached, removed for alcoholism, insanity, but no “high crimes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ublicans began fearing the destruction of an independent judicia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fferson exacerbated fears by seeking to impeach Federalist Samuel Ch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ublican Senate refused to convi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Republican Identities in a New Republic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age of rapid population grow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.2 million in 1810; 2 million more than in 18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0% black slav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ldren under sixteen the largest single grou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rong regional identities facilitated by transportation improvements and motivated by defensive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rly secession movements threatened national un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Politics of Desperation:</a:t>
            </a:r>
            <a:br>
              <a:rPr sz="4400"/>
            </a:b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“Tertium Quids”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rtium Quids” claimed pure Republicanis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tacked Jefferson as sacrificing virtue for pragmat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Politics of Desperation:</a:t>
            </a:r>
            <a:br>
              <a:rPr sz="4400"/>
            </a:b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The Yazoo Controversy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azoo controvers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audulent land case in Georgi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fferson attempted to settle by providing land to innocent par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ids complained settlement condoned frau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Fletcher v. Peck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1810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shall Court upheld Jefferson’s settl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urt may nullify unconstitutional state law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43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Murder and Conspiracy: The Curious Career of Aaron Burr 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ice-President Aaron Burr broke with Jeffer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rr sought Federalist support in 1804 New York governor’s rac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exander Hamilton blocked Burr’s eff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rr killed Hamilton in a du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The Burr Conspiracy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rr fled West after Hamilton du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hemed to invade Spanish territory, separate Louisiana from U.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rr arrested, tried for treas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quitted on constitutional grounds of insufficient evid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cedent made it difficult for presidents to use charge of treason as a political tool, especially hearsay and circumstantial evid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The Slave Trade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titution had said Congress could consider banning importation of slaves after 180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fferson asked for and Congress approved such a b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tional conflict over what to do with captured slav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rtherners could not agre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utherners demanded states regulate slave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w said states deal with captured smuggled slav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Embarrassments Overseas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03—England and France resumed w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erican ships subject to seiz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y England through “Orders in Council”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y Napoleon through Berlin, Milan Decre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Chesapeak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vs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Leopar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blic demanded w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fferson refused war to preserve financial reform and recognized that his military cuts had left nation ill prepared for w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Embargo Divides the Nation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07—Congress prohibited U.S. ships from leaving po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rpose: to win English, French respect for American righ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mbargo unpopular at ho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tailed government oversight of commer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my suppressed smuggl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 England economy damag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The Election of 1808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rcRect l="0" t="27482" r="0" b="8392"/>
          <a:stretch/>
        </p:blipFill>
        <p:spPr>
          <a:xfrm>
            <a:off x="380880" y="2438280"/>
            <a:ext cx="8458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8075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A New Administration Goes to War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808—James Madison elected presid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809—Embargo repealed in favor of Non-Intercourse A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.S. would resume trade with England and France on promise to cease seizure of U.S. vesse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itish official promised to comp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me Minister Canning changed his mind; English seized U.S. ships that had opened trade with Engl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A New Administration Goes to War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con’s Bill Number Two replaced the Non-Intercourse A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rade with both England and France re-establish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rst nation to respect American rights won halt of U.S. trade with the oth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poleon promised to observe U.S. rights but reneges when trade re-open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rontier people believed British were encouraging Tecumseh, but he was defeated at Battle of Tippecanoe, forcing him to turn to Brita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North America in 1800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61976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Fumbling Toward Conflict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gressional War Hawks demanded war with England to preserve American hon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itish repealed Orders-in-Council as Madison was asking for declaration of w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r aims somewhat vag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fference between War Hawks and Madison administration over purpose of invading Cana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lection of 1812 showed division over w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The Election of 1812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rcRect l="0" t="17000" r="0" b="2262"/>
          <a:stretch/>
        </p:blipFill>
        <p:spPr>
          <a:xfrm>
            <a:off x="533520" y="2590920"/>
            <a:ext cx="83055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The Strange War of 1812:</a:t>
            </a:r>
            <a:br>
              <a:rPr sz="4400"/>
            </a:b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Early Course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ericans unprepared for w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gress refused to raise wartime tax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w England refused to support war effort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nited States Army smal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ate militias inadequat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st attacks against Canada fail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wo key exceptions in 181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liver Hazard Perry won control of Great Lakes for U.S. in Battle of Put-In Ba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illiam Henry Harrison defeated British and Indians at Battle of Tham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The Strange War of 1812:  Three-Pronged English Attack, 1814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itish invasion of New York from Canada stopped at Lake Champla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mpaign in the Chesapeak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ashington D.C. burned in retaliation for American burning of York earli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ltimore saved by defense of Fort McHen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tempt to capture New Orleans thwarted by Andrew Jackson, January, 181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ar already over, communication la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ave Americans source of pri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de Jackson a national her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The War of 1812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124080" y="1523880"/>
            <a:ext cx="30895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Hartford Convention: The Demise of the Federalists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deralists convened in December, 181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posed constitutional changes to lessen power of South and We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eaty of Ghent, victory of New Orleans made Convention appear disloy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deralist party never recove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5867280" cy="143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Treaty of Ghent Ends the War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t problems left unaddress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nate unanimously ratified Treaty of Ghen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ericans portrayed it as victory and it stimulated American national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Republican Legacy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nders began to pass away in 1820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omas Jefferson and John Adams both died July 4, 1826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ames Madison died in 1836 despairing that slavery’s continuation undermined legacy of republican egalitarianism of Found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Westward the Course of Empire 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nse migration to West after 179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w sta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ntucky—179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nnessee—179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hio—180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stern regional culture rootless, optimist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Native American Resistance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ttlers bought land fraudulentl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tive Americans resis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cumseh led Shawnee; defeated in War of 181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reek defeated by Andrew Jackson at Battle of Horseshoe Be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fferson wanted Native Americans moved west of Mississippi and to become yeoman farmers with help of federal Indian agent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Commercial Life in the Cities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569680"/>
            <a:ext cx="8001000" cy="470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.S. economy based on agriculture and trade (84% of population in agricultur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merican shipping prospered, 1793-180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ities’ main function was international trade, otherwise marginal role in national life: only 7% of population was urba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merce preferred, manufacturing seen as too risk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muel Slater an excep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ustrialization and mechanization just beginning to frighten skilled crafts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Jefferson as President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999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fferson’s personal sty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spised ceremonies and formal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dicated to intellectual pursui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fferson’s goals as presid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duce size and cost of govern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peal Federalist legislation like the Sedition A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ep U.S. out of w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fferson was skillful politici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ood relations with Congressional leaders, never had to veto a bil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icked talented, loyal men for his cabin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Jeffersonian Reforms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utting federal debt a prior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x system re-structured, direct taxes eliminated, federal revenue from custo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litary cut substantial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ut government expense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publican ideology favored militia over standing arm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ilitary professionalism kept by creating Army Corps of Engineers and West Poi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deralists fell apa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derate Federalists allowed to remain bureaucracy and were co-opted by Republica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ny leaders like Jay retired from public lif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mpaigning to commoners seen as demean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estward expansion favored Republica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The Louisiana Purchase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ain gave Louisiana to France, New Orleans closed to American ship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fferson saw New Orleans as vital to U.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nt James Monroe to negotiate its purch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poleon offered to sell all of Louisiana for $15 mill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portance: it would help make America a first-rank pow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titution vague on power to acquire land inhabited by foreign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20:06:58Z</dcterms:created>
  <dc:creator>CMU</dc:creator>
  <dc:description/>
  <cp:keywords/>
  <dc:language>en-US</dc:language>
  <cp:lastModifiedBy>Teresa Ward User</cp:lastModifiedBy>
  <cp:lastPrinted>2012-09-12T16:36:25Z</cp:lastPrinted>
  <dcterms:modified xsi:type="dcterms:W3CDTF">2006-11-08T19:21:35Z</dcterms:modified>
  <cp:revision>35</cp:revision>
  <dc:subject/>
  <dc:title>CHAPTER 8 JEFFERSONIAN ASCENDANCY: THEORY AND PRACTICE OF GOVERNMENT</dc:title>
</cp:coreProperties>
</file>